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DF7-B408-447B-93C5-C429E46F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F7D-ABF3-44DB-9C5C-5DB0342C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216-296F-425D-BFE2-1922921E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AC1-F6AC-4C1C-9B9D-F450FA38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9AB8-6C10-4473-BD6D-5B3399DE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07EE4-0230-4103-9599-6FAD132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1E9C-FF73-4CE2-97CA-FE6EFCFA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9DB9B-4600-4DC6-A64E-B3971AA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DCD52-3E6A-401E-89F8-6862282D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FABF-CB8C-4666-80F4-40586DA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7DAFB-E0C8-4F2D-8B29-5CD5843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9A6-6A6F-4CCD-BA64-A267C99B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3EC6-C39F-4048-A44F-3C0D561F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A564F-50AA-4E89-A070-4C57210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8DDA7-2380-47CA-B0C2-D8565D49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9AC12-39AA-47DC-B069-7500C5D4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D709-E9DA-4C02-8609-8B923C82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40A-10E2-4807-BB2F-4DA1972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E58-879D-4702-8333-1F8679C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042-F2DF-4DA5-BFCA-EA42BA35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5CC-02AE-40C0-BF1D-E9F90BEB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5E0-B922-4B45-9046-4937F7C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730-1B83-4CB8-87B2-4BE99C6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35B-4C19-4707-967A-73491526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F9C-FB6E-4605-AA25-94FD823A4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8B17-E5C0-4DE5-9E14-72D73BAF3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ort.iatp.org.ua/" TargetMode="External"/><Relationship Id="rId3" Type="http://schemas.openxmlformats.org/officeDocument/2006/relationships/hyperlink" Target="http://www.sport.iatp.org.ua/" TargetMode="External"/><Relationship Id="rId4" Type="http://schemas.openxmlformats.org/officeDocument/2006/relationships/hyperlink" Target="http://www.sport.iatp.org.ua/" TargetMode="External"/><Relationship Id="rId5" Type="http://schemas.openxmlformats.org/officeDocument/2006/relationships/hyperlink" Target="http://www.sport.iatp.org.ua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0920" y="134136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765000"/>
            <a:ext cx="864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Как гимнастика влияет на здоровье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348000" y="5877000"/>
            <a:ext cx="540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:Ивашова Елена 8б класс  город Сыктывка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влияние гимнастики на здоровье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8000" y="2884320"/>
            <a:ext cx="4824720" cy="335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, что такое гимна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какие упражнения полезно делать по утр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обраться, что нам даёт гимна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МНАСТИК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мплекс физических упражнений, позволяющих развить группы мышц, нормализовать свой вес, улучшить кровяное давление, то есть привести наш организм в гармонию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тренние упражн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УКИ И ГРУДЬ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еди руки в стороны на уровне плеч. Согни руки в локтях, так, чтобы кисти оказались на уровне груди, затем вернись в исходное положение. Повтори 20 раз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и на ширине плеч. Согни руки в локтях и соедини ладони на уровне груди. Быстрыми, короткими движениями пытайся толкать локти друг к другу. Повтори упражнение 15-20 ра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ТАЛ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Ляг на спину, руки вдоль туловища. Подними од-новременно выпрямленные ноги, верхнюю часть туловища и руки, так, чтобы кисти коснулись пальцев ног. Лишь ягодицы должны оставаться на полу. Повтори 10 ра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ЖИВОТ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яг на пол в той же позиции. Подними обе ноги перпендику-лярно полу и согни их в коле-нях. Теперь, держа вытянутые как можно дальше руки, плав-но раскачивай верхнюю часть тела, предварительно оторвав ее от пола - 15 см вперед и столько же назад. Выполните 20 ра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ГОДИЦЫ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яг на кровати на живот, руки вдоль туловища. Напряги ноги, затем подними левую как можно выше и считай до пяти. Опусти. Подними правую. Выполняя упражнение, старайся тянуть носок. Повтори по 10 раз каждой ног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НОГ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яг на правый бок, подопри голову согнутой в локте рукой. Подними выпрямленную левую ногу как можно выше, считай до десяти. Повтори еще два раза. А потом перевернись на бок и три раза повтори упражнение с правой ног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ОБЩИЙ ТРЕНИН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тобы закрепить эффект упражнений, встань на цыпочки (ноги вместе) и вытяни руки перед собой. Медленно сгибай колени, пока ягодицы не коснутся лодыжек. Вернись в прежнее положение. Старайся все время находиться на по-лупальца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тренние упражн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нам дают упражне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бк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09564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162864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ов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067200" cy="237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61400" y="522936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расивый ст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3016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Выв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С чего начать утреннюю зарядку"/>
          <p:cNvPicPr/>
          <p:nvPr/>
        </p:nvPicPr>
        <p:blipFill>
          <a:blip r:embed="rId2"/>
          <a:stretch/>
        </p:blipFill>
        <p:spPr>
          <a:xfrm>
            <a:off x="2700360" y="3429000"/>
            <a:ext cx="318456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1628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изические упражнения благоприятно влияют на организ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лучшает работоспособность головного мозга, внутренних органов, органов зрения и слуха,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им образом держит организм человека в тону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sport.iatp.org.ua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7:08:21Z</dcterms:created>
  <dc:creator>vector</dc:creator>
  <dc:description/>
  <dc:language>en-US</dc:language>
  <cp:lastModifiedBy>Алексей</cp:lastModifiedBy>
  <dcterms:modified xsi:type="dcterms:W3CDTF">2009-12-20T17:19:33Z</dcterms:modified>
  <cp:revision>15</cp:revision>
  <dc:subject/>
  <dc:title>Слайд 1</dc:title>
</cp:coreProperties>
</file>